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4B51C-5E92-42D5-838D-2008B3815DF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E6177-5F19-4851-8323-A6FE21DD19B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7637B-193E-4254-9CF4-4A1F3F03CC7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6704-E33F-429A-84C1-75A25F249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C1A4-3618-4D3F-A304-EB2AD1F18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2473-2A0A-4433-AB22-95B8E9764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6DB9-1918-4AE3-BC3A-FB6581443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13F6-A22B-46C3-B471-CADC53AF3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E0E1-950E-467B-B22A-6B92E3F67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2EA4-0055-4AD8-8C2F-673A6B329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3279-06DC-4C04-A8FC-33D07B3A0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4873-0CDE-4D69-A7D3-9F8780420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7FE3-0D7A-424A-A52F-3D730A62A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A0D0-9347-4CB0-905C-2E12F7EE2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FB97-F9C3-48DF-9AA6-D12AA454B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B1C2C-8678-4655-944B-21CDAF2F58D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WordArt 11"/>
          <p:cNvSpPr txBox="1"/>
          <p:nvPr/>
        </p:nvSpPr>
        <p:spPr>
          <a:xfrm>
            <a:off x="1219320" y="2133720"/>
            <a:ext cx="7543800" cy="392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0" lang="en-US" sz="1800" spc="1" strike="noStrike">
              <a:ln w="9360">
                <a:solidFill>
                  <a:srgbClr val="000066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50" name="Group 12"/>
          <p:cNvGrpSpPr/>
          <p:nvPr/>
        </p:nvGrpSpPr>
        <p:grpSpPr>
          <a:xfrm>
            <a:off x="228600" y="304920"/>
            <a:ext cx="2133720" cy="1328760"/>
            <a:chOff x="228600" y="304920"/>
            <a:chExt cx="2133720" cy="1328760"/>
          </a:xfrm>
        </p:grpSpPr>
        <p:pic>
          <p:nvPicPr>
            <p:cNvPr id="51" name="Picture 13" descr="Ы"/>
            <p:cNvPicPr/>
            <p:nvPr/>
          </p:nvPicPr>
          <p:blipFill>
            <a:blip r:embed="rId2"/>
            <a:stretch/>
          </p:blipFill>
          <p:spPr>
            <a:xfrm>
              <a:off x="228600" y="304920"/>
              <a:ext cx="2133720" cy="13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WordArt 14"/>
            <p:cNvSpPr txBox="1"/>
            <p:nvPr/>
          </p:nvSpPr>
          <p:spPr>
            <a:xfrm>
              <a:off x="228600" y="380880"/>
              <a:ext cx="60948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66"/>
                    </a:solidFill>
                    <a:miter/>
                  </a:ln>
                  <a:solidFill>
                    <a:srgbClr val="0033cc"/>
                  </a:solidFill>
                  <a:latin typeface="Times New Roman"/>
                </a:rPr>
                <a:t>ГИА</a:t>
              </a:r>
              <a:endParaRPr b="0" lang="en-US" sz="18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0033cc"/>
                </a:solidFill>
                <a:latin typeface="Times New Roman"/>
                <a:ea typeface="Times New Roman"/>
              </a:endParaRPr>
            </a:p>
          </p:txBody>
        </p:sp>
      </p:grpSp>
      <p:pic>
        <p:nvPicPr>
          <p:cNvPr id="53" name="Picture 13" descr=""/>
          <p:cNvPicPr/>
          <p:nvPr/>
        </p:nvPicPr>
        <p:blipFill>
          <a:blip r:embed="rId3"/>
          <a:srcRect l="0" t="26802" r="0" b="5360"/>
          <a:stretch/>
        </p:blipFill>
        <p:spPr>
          <a:xfrm>
            <a:off x="0" y="6132600"/>
            <a:ext cx="9144000" cy="753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68440" y="2361960"/>
            <a:ext cx="8229600" cy="163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собенности проведения в 2013 году    государственной (итоговой) аттестации выпускников 9 классов                    в новой форм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1"/>
          <p:cNvSpPr/>
          <p:nvPr/>
        </p:nvSpPr>
        <p:spPr>
          <a:xfrm>
            <a:off x="4267080" y="4578480"/>
            <a:ext cx="4648320" cy="176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                                 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М.Х. Салах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ведущий консультант отдела мониторинга качества образования и аттестации обучающихся МОиН 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Нижний колонтитул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7EAF8-3E52-4883-81C9-AF3987C101E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" descr="image002"/>
          <p:cNvPicPr/>
          <p:nvPr/>
        </p:nvPicPr>
        <p:blipFill>
          <a:blip r:embed="rId1">
            <a:lum bright="36000"/>
          </a:blip>
          <a:stretch/>
        </p:blipFill>
        <p:spPr>
          <a:xfrm>
            <a:off x="304920" y="304920"/>
            <a:ext cx="990360" cy="5857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" descr="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5" name="Group 4"/>
          <p:cNvGrpSpPr/>
          <p:nvPr/>
        </p:nvGrpSpPr>
        <p:grpSpPr>
          <a:xfrm>
            <a:off x="228600" y="304920"/>
            <a:ext cx="2133720" cy="1328760"/>
            <a:chOff x="228600" y="304920"/>
            <a:chExt cx="2133720" cy="1328760"/>
          </a:xfrm>
        </p:grpSpPr>
        <p:pic>
          <p:nvPicPr>
            <p:cNvPr id="126" name="Picture 5" descr="Ы"/>
            <p:cNvPicPr/>
            <p:nvPr/>
          </p:nvPicPr>
          <p:blipFill>
            <a:blip r:embed="rId3">
              <a:lum bright="70000" contrast="-70000"/>
            </a:blip>
            <a:stretch/>
          </p:blipFill>
          <p:spPr>
            <a:xfrm>
              <a:off x="228600" y="304920"/>
              <a:ext cx="2133720" cy="13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WordArt 6"/>
            <p:cNvSpPr txBox="1"/>
            <p:nvPr/>
          </p:nvSpPr>
          <p:spPr>
            <a:xfrm>
              <a:off x="228600" y="380880"/>
              <a:ext cx="60948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66"/>
                    </a:solidFill>
                    <a:miter/>
                  </a:ln>
                  <a:solidFill>
                    <a:srgbClr val="0033cc"/>
                  </a:solidFill>
                  <a:latin typeface="Times New Roman"/>
                </a:rPr>
                <a:t>ГИА</a:t>
              </a:r>
              <a:endParaRPr b="0" lang="en-US" sz="18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0033cc"/>
                </a:solidFill>
                <a:latin typeface="Times New Roman"/>
                <a:ea typeface="Times New Roman"/>
              </a:endParaRPr>
            </a:p>
          </p:txBody>
        </p:sp>
      </p:grpSp>
      <p:sp>
        <p:nvSpPr>
          <p:cNvPr id="128" name="Text Box 7"/>
          <p:cNvSpPr/>
          <p:nvPr/>
        </p:nvSpPr>
        <p:spPr>
          <a:xfrm>
            <a:off x="501480" y="1666800"/>
            <a:ext cx="7963200" cy="34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Для участия в государственной (итоговой) аттестации в новой форме обучающиеся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о 1 марта </a:t>
            </a:r>
            <a:r>
              <a:rPr b="0" lang="ru-RU" sz="24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текущего года подают в образовательное учреждение, в котором они осваивали основные общеобразовательные программы основного общего образования,  заявление с указанием перечня предмет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Нижний колонтитул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31B71-571C-4ABE-934C-AAEDC2F8095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2" descr="image002"/>
          <p:cNvPicPr/>
          <p:nvPr/>
        </p:nvPicPr>
        <p:blipFill>
          <a:blip r:embed="rId1">
            <a:lum bright="36000"/>
          </a:blip>
          <a:stretch/>
        </p:blipFill>
        <p:spPr>
          <a:xfrm>
            <a:off x="304920" y="304920"/>
            <a:ext cx="990360" cy="5857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3" descr="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3" name="Group 4"/>
          <p:cNvGrpSpPr/>
          <p:nvPr/>
        </p:nvGrpSpPr>
        <p:grpSpPr>
          <a:xfrm>
            <a:off x="228600" y="304920"/>
            <a:ext cx="2133720" cy="1328760"/>
            <a:chOff x="228600" y="304920"/>
            <a:chExt cx="2133720" cy="1328760"/>
          </a:xfrm>
        </p:grpSpPr>
        <p:pic>
          <p:nvPicPr>
            <p:cNvPr id="134" name="Picture 5" descr="Ы"/>
            <p:cNvPicPr/>
            <p:nvPr/>
          </p:nvPicPr>
          <p:blipFill>
            <a:blip r:embed="rId3">
              <a:lum bright="70000" contrast="-70000"/>
            </a:blip>
            <a:stretch/>
          </p:blipFill>
          <p:spPr>
            <a:xfrm>
              <a:off x="228600" y="304920"/>
              <a:ext cx="2133720" cy="13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WordArt 6"/>
            <p:cNvSpPr txBox="1"/>
            <p:nvPr/>
          </p:nvSpPr>
          <p:spPr>
            <a:xfrm>
              <a:off x="228600" y="380880"/>
              <a:ext cx="60948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66"/>
                    </a:solidFill>
                    <a:miter/>
                  </a:ln>
                  <a:solidFill>
                    <a:srgbClr val="0033cc"/>
                  </a:solidFill>
                  <a:latin typeface="Times New Roman"/>
                </a:rPr>
                <a:t>ГИА</a:t>
              </a:r>
              <a:endParaRPr b="0" lang="en-US" sz="18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0033cc"/>
                </a:solidFill>
                <a:latin typeface="Times New Roman"/>
                <a:ea typeface="Times New Roman"/>
              </a:endParaRPr>
            </a:p>
          </p:txBody>
        </p:sp>
      </p:grpSp>
      <p:sp>
        <p:nvSpPr>
          <p:cNvPr id="136" name="Text Box 7"/>
          <p:cNvSpPr/>
          <p:nvPr/>
        </p:nvSpPr>
        <p:spPr>
          <a:xfrm>
            <a:off x="419040" y="1828800"/>
            <a:ext cx="8305920" cy="27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Решение об участии в государственной (итоговой) аттестации обучающихся в новой форме выпускников IХ классов, получивших основное общее образование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вечерней форме, </a:t>
            </a:r>
            <a:r>
              <a:rPr b="0" lang="ru-RU" sz="24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принимают муниципальные органы управления образование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26267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Нижний колонтитул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5D6D1-087E-4409-8FD4-048665EA7F8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2" descr="image002"/>
          <p:cNvPicPr/>
          <p:nvPr/>
        </p:nvPicPr>
        <p:blipFill>
          <a:blip r:embed="rId1">
            <a:lum bright="36000"/>
          </a:blip>
          <a:stretch/>
        </p:blipFill>
        <p:spPr>
          <a:xfrm>
            <a:off x="304920" y="304920"/>
            <a:ext cx="990360" cy="5857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3" descr="2"/>
          <p:cNvPicPr/>
          <p:nvPr/>
        </p:nvPicPr>
        <p:blipFill>
          <a:blip r:embed="rId2"/>
          <a:stretch/>
        </p:blipFill>
        <p:spPr>
          <a:xfrm>
            <a:off x="-415800" y="-179280"/>
            <a:ext cx="9677160" cy="70866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7"/>
          <p:cNvSpPr/>
          <p:nvPr/>
        </p:nvSpPr>
        <p:spPr>
          <a:xfrm>
            <a:off x="173160" y="2239920"/>
            <a:ext cx="85312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Сроки проведения экзаменов  государственной (итоговой) аттестации выпускников IX классов                           в новой форме устанавливаются Министерством образования и науки Российской Федерац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Нижний колонтитул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A1C25-6BDC-47B8-99B6-924BC9DAC51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2" descr="image002"/>
          <p:cNvPicPr/>
          <p:nvPr/>
        </p:nvPicPr>
        <p:blipFill>
          <a:blip r:embed="rId1">
            <a:lum bright="36000"/>
          </a:blip>
          <a:stretch/>
        </p:blipFill>
        <p:spPr>
          <a:xfrm>
            <a:off x="304920" y="304920"/>
            <a:ext cx="990360" cy="5857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" descr="2"/>
          <p:cNvPicPr/>
          <p:nvPr/>
        </p:nvPicPr>
        <p:blipFill>
          <a:blip r:embed="rId2"/>
          <a:stretch/>
        </p:blipFill>
        <p:spPr>
          <a:xfrm>
            <a:off x="-380880" y="-228600"/>
            <a:ext cx="9677160" cy="708660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7"/>
          <p:cNvSpPr/>
          <p:nvPr/>
        </p:nvSpPr>
        <p:spPr>
          <a:xfrm>
            <a:off x="304920" y="1523880"/>
            <a:ext cx="83055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Выпускники IX классов общеобразовательных учреждений, получившие на государственной (итоговой) аттестации в новой форме </a:t>
            </a:r>
            <a:r>
              <a:rPr b="0" lang="ru-RU" sz="2400" spc="-1" strike="noStrike" u="sng">
                <a:solidFill>
                  <a:srgbClr val="262673"/>
                </a:solidFill>
                <a:uFillTx/>
                <a:latin typeface="Times New Roman"/>
                <a:ea typeface="Times New Roman"/>
              </a:rPr>
              <a:t>не более двух неудовлетворительных отметок</a:t>
            </a:r>
            <a:r>
              <a:rPr b="0" lang="ru-RU" sz="24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, допускаются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 повторной государственной (итоговой) аттестации</a:t>
            </a:r>
            <a:r>
              <a:rPr b="0" lang="ru-RU" sz="24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 по этим предметам, которая проводится в новой форме в ОУ-ППЭ путем создания </a:t>
            </a:r>
            <a:r>
              <a:rPr b="0" lang="ru-RU" sz="2400" spc="-1" strike="noStrike" u="sng">
                <a:solidFill>
                  <a:srgbClr val="262673"/>
                </a:solidFill>
                <a:uFillTx/>
                <a:latin typeface="Times New Roman"/>
                <a:ea typeface="Times New Roman"/>
              </a:rPr>
              <a:t>муниципальных экзаменационных комисс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Нижний колонтитул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BB273-5AB9-46CC-8F0C-D192580BAFA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" descr="image002"/>
          <p:cNvPicPr/>
          <p:nvPr/>
        </p:nvPicPr>
        <p:blipFill>
          <a:blip r:embed="rId1">
            <a:lum bright="36000"/>
          </a:blip>
          <a:stretch/>
        </p:blipFill>
        <p:spPr>
          <a:xfrm>
            <a:off x="304920" y="304920"/>
            <a:ext cx="990360" cy="5857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3" descr="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51" name="Group 4"/>
          <p:cNvGrpSpPr/>
          <p:nvPr/>
        </p:nvGrpSpPr>
        <p:grpSpPr>
          <a:xfrm>
            <a:off x="228600" y="304920"/>
            <a:ext cx="2133720" cy="1328760"/>
            <a:chOff x="228600" y="304920"/>
            <a:chExt cx="2133720" cy="1328760"/>
          </a:xfrm>
        </p:grpSpPr>
        <p:pic>
          <p:nvPicPr>
            <p:cNvPr id="152" name="Picture 5" descr="Ы"/>
            <p:cNvPicPr/>
            <p:nvPr/>
          </p:nvPicPr>
          <p:blipFill>
            <a:blip r:embed="rId3">
              <a:lum bright="70000" contrast="-70000"/>
            </a:blip>
            <a:stretch/>
          </p:blipFill>
          <p:spPr>
            <a:xfrm>
              <a:off x="228600" y="304920"/>
              <a:ext cx="2133720" cy="13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WordArt 6"/>
            <p:cNvSpPr txBox="1"/>
            <p:nvPr/>
          </p:nvSpPr>
          <p:spPr>
            <a:xfrm>
              <a:off x="228600" y="380880"/>
              <a:ext cx="60948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66"/>
                    </a:solidFill>
                    <a:miter/>
                  </a:ln>
                  <a:solidFill>
                    <a:srgbClr val="0033cc"/>
                  </a:solidFill>
                  <a:latin typeface="Times New Roman"/>
                </a:rPr>
                <a:t>ГИА</a:t>
              </a:r>
              <a:endParaRPr b="0" lang="en-US" sz="18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0033cc"/>
                </a:solidFill>
                <a:latin typeface="Times New Roman"/>
                <a:ea typeface="Times New Roman"/>
              </a:endParaRPr>
            </a:p>
          </p:txBody>
        </p:sp>
      </p:grpSp>
      <p:sp>
        <p:nvSpPr>
          <p:cNvPr id="154" name="Text Box 7"/>
          <p:cNvSpPr/>
          <p:nvPr/>
        </p:nvSpPr>
        <p:spPr>
          <a:xfrm>
            <a:off x="533520" y="873000"/>
            <a:ext cx="7924680" cy="46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Технические средства и оборудование для проведения                       ГИА-9 в новой форм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На муниципальном уровне необходимо обеспечить пунктов проведения экзаменов техническими средствами и оборудованием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- по русскому языку – звуковоспроизводящей аппаратуро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- по иностранным языкам (английский, французский, немецкий, испанский) – звуковоспроизводящей (для воспроизведения аудиотекста) и звукозаписывающей аппаратурой (диктофоны, батарейки), компакт-дисками (CD-</a:t>
            </a:r>
            <a:r>
              <a:rPr b="0" lang="en-US" sz="20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R</a:t>
            </a:r>
            <a:r>
              <a:rPr b="0" lang="ru-RU" sz="20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) для записи ответов экзаменуемых в разделе «Говорение»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- по физике – экспериментальным оборудование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- по информатике и ИКТ – персональными компьютерами с установленным соответствующим  программным обеспечени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Нижний колонтитул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38E3F-3932-417A-B011-96FF6939A8F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2" descr="image002"/>
          <p:cNvPicPr/>
          <p:nvPr/>
        </p:nvPicPr>
        <p:blipFill>
          <a:blip r:embed="rId1">
            <a:lum bright="36000"/>
          </a:blip>
          <a:stretch/>
        </p:blipFill>
        <p:spPr>
          <a:xfrm>
            <a:off x="304920" y="304920"/>
            <a:ext cx="990360" cy="5857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3" descr="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59" name="Group 4"/>
          <p:cNvGrpSpPr/>
          <p:nvPr/>
        </p:nvGrpSpPr>
        <p:grpSpPr>
          <a:xfrm>
            <a:off x="228600" y="304920"/>
            <a:ext cx="2133720" cy="1328760"/>
            <a:chOff x="228600" y="304920"/>
            <a:chExt cx="2133720" cy="1328760"/>
          </a:xfrm>
        </p:grpSpPr>
        <p:pic>
          <p:nvPicPr>
            <p:cNvPr id="160" name="Picture 5" descr="Ы"/>
            <p:cNvPicPr/>
            <p:nvPr/>
          </p:nvPicPr>
          <p:blipFill>
            <a:blip r:embed="rId3">
              <a:lum bright="70000" contrast="-70000"/>
            </a:blip>
            <a:stretch/>
          </p:blipFill>
          <p:spPr>
            <a:xfrm>
              <a:off x="228600" y="304920"/>
              <a:ext cx="2133720" cy="13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WordArt 6"/>
            <p:cNvSpPr txBox="1"/>
            <p:nvPr/>
          </p:nvSpPr>
          <p:spPr>
            <a:xfrm>
              <a:off x="228600" y="380880"/>
              <a:ext cx="60948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66"/>
                    </a:solidFill>
                    <a:miter/>
                  </a:ln>
                  <a:solidFill>
                    <a:srgbClr val="0033cc"/>
                  </a:solidFill>
                  <a:latin typeface="Times New Roman"/>
                </a:rPr>
                <a:t>ГИА</a:t>
              </a:r>
              <a:endParaRPr b="0" lang="en-US" sz="18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0033cc"/>
                </a:solidFill>
                <a:latin typeface="Times New Roman"/>
                <a:ea typeface="Times New Roman"/>
              </a:endParaRPr>
            </a:p>
          </p:txBody>
        </p:sp>
      </p:grpSp>
      <p:sp>
        <p:nvSpPr>
          <p:cNvPr id="162" name="Text Box 7"/>
          <p:cNvSpPr/>
          <p:nvPr/>
        </p:nvSpPr>
        <p:spPr>
          <a:xfrm>
            <a:off x="471600" y="1371600"/>
            <a:ext cx="82515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Время проведения экзаменов, на  которые отводилось 4 часа, в соответствии с требованиями СанПиН сокращено на 5 минут (с 240 до 235 минут)</a:t>
            </a:r>
            <a:r>
              <a:rPr b="0" lang="ru-RU" sz="1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 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Обществознание, история, информатика и ИКТ, литература, иностранные языки, химия – </a:t>
            </a:r>
            <a:r>
              <a:rPr b="1" i="1" lang="ru-RU" sz="1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изменений н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  </a:t>
            </a:r>
            <a:r>
              <a:rPr b="1" lang="ru-RU" sz="1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Русский язык: </a:t>
            </a:r>
            <a:r>
              <a:rPr b="0" lang="ru-RU" sz="1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изменено задание С2; исключено альтернативное задание (С2.2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  </a:t>
            </a:r>
            <a:r>
              <a:rPr b="1" lang="ru-RU" sz="1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Биология: </a:t>
            </a:r>
            <a:r>
              <a:rPr b="0" lang="ru-RU" sz="1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в часть 2 (В) включено практико-ориентированное задание на соотнесение морфологических признаков организма или его отдельных органов с предложенными моделями по заданному алгоритм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  </a:t>
            </a:r>
            <a:r>
              <a:rPr b="1" lang="ru-RU" sz="1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Физика: </a:t>
            </a:r>
            <a:r>
              <a:rPr b="0" lang="ru-RU" sz="1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добавлено задание 8 с выбором ответа – на тепловые явления, а также задание 23 с кратким ответом – на понимание и анализ экспериментальных данных, представленных в виде таблицы, графика или рисунка (схемы). Общее количество заданий увеличено до 27, максимальный первичный балл за работу вырос до 4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  </a:t>
            </a:r>
            <a:r>
              <a:rPr b="1" lang="ru-RU" sz="1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География</a:t>
            </a:r>
            <a:r>
              <a:rPr b="0" lang="ru-RU" sz="1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: общее количество заданий сокращено с 31 до 30, а максимальный первичный балл за выполнение всех заданий работы – с 33 до 3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Заголовок 1"/>
          <p:cNvSpPr/>
          <p:nvPr/>
        </p:nvSpPr>
        <p:spPr>
          <a:xfrm>
            <a:off x="1523880" y="495360"/>
            <a:ext cx="707724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зменения в КИМ ГИА в 2013 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Нижний колонтитул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6060A-7846-4EC1-8A1B-32580B9A49C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2" descr="image002"/>
          <p:cNvPicPr/>
          <p:nvPr/>
        </p:nvPicPr>
        <p:blipFill>
          <a:blip r:embed="rId1">
            <a:lum bright="36000"/>
          </a:blip>
          <a:stretch/>
        </p:blipFill>
        <p:spPr>
          <a:xfrm>
            <a:off x="304920" y="304920"/>
            <a:ext cx="990360" cy="5857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3" descr="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68" name="Group 4"/>
          <p:cNvGrpSpPr/>
          <p:nvPr/>
        </p:nvGrpSpPr>
        <p:grpSpPr>
          <a:xfrm>
            <a:off x="228600" y="304920"/>
            <a:ext cx="2133720" cy="1328760"/>
            <a:chOff x="228600" y="304920"/>
            <a:chExt cx="2133720" cy="1328760"/>
          </a:xfrm>
        </p:grpSpPr>
        <p:pic>
          <p:nvPicPr>
            <p:cNvPr id="169" name="Picture 5" descr="Ы"/>
            <p:cNvPicPr/>
            <p:nvPr/>
          </p:nvPicPr>
          <p:blipFill>
            <a:blip r:embed="rId3">
              <a:lum bright="70000" contrast="-70000"/>
            </a:blip>
            <a:stretch/>
          </p:blipFill>
          <p:spPr>
            <a:xfrm>
              <a:off x="228600" y="304920"/>
              <a:ext cx="2133720" cy="13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WordArt 6"/>
            <p:cNvSpPr txBox="1"/>
            <p:nvPr/>
          </p:nvSpPr>
          <p:spPr>
            <a:xfrm>
              <a:off x="228600" y="380880"/>
              <a:ext cx="60948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66"/>
                    </a:solidFill>
                    <a:miter/>
                  </a:ln>
                  <a:solidFill>
                    <a:srgbClr val="0033cc"/>
                  </a:solidFill>
                  <a:latin typeface="Times New Roman"/>
                </a:rPr>
                <a:t>ГИА</a:t>
              </a:r>
              <a:endParaRPr b="0" lang="en-US" sz="18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0033cc"/>
                </a:solidFill>
                <a:latin typeface="Times New Roman"/>
                <a:ea typeface="Times New Roman"/>
              </a:endParaRPr>
            </a:p>
          </p:txBody>
        </p:sp>
      </p:grpSp>
      <p:sp>
        <p:nvSpPr>
          <p:cNvPr id="171" name="Text Box 7"/>
          <p:cNvSpPr/>
          <p:nvPr/>
        </p:nvSpPr>
        <p:spPr>
          <a:xfrm>
            <a:off x="380880" y="380880"/>
            <a:ext cx="8153640" cy="59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ововведения в КИМ ГИА 2013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  </a:t>
            </a:r>
            <a:r>
              <a:rPr b="1" lang="ru-RU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Математ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20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возможность раздельного оценивания алгебраической и геометрической подготовки учащихся (выставление отметок по курсу алгебры и курсу геометрии), модульная структура - «Алгебра», «Геометрия», «Реальная математик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Новые ФГОС – предмет «Математика. Алгебра. Геометрия. Информатик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- полноценная реализация требований ФГОС в части использования приобретенных знаний и умений в практической деятельности и повседневной жиз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26267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       </a:t>
            </a:r>
            <a:r>
              <a:rPr b="0" i="1" lang="ru-RU" sz="16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Учащимся разрешается использовать справочные материалы, выдаваемые вместе с вариантом. Разрешается использовать линейку. Калькуляторы на экзамене не используются.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Нижний колонтитул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B6BD6-6CF5-42D3-BFEE-3483B48E0BB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2" descr="image002"/>
          <p:cNvPicPr/>
          <p:nvPr/>
        </p:nvPicPr>
        <p:blipFill>
          <a:blip r:embed="rId1">
            <a:lum bright="36000"/>
          </a:blip>
          <a:stretch/>
        </p:blipFill>
        <p:spPr>
          <a:xfrm>
            <a:off x="304920" y="304920"/>
            <a:ext cx="990360" cy="5857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3" descr="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76" name="Group 4"/>
          <p:cNvGrpSpPr/>
          <p:nvPr/>
        </p:nvGrpSpPr>
        <p:grpSpPr>
          <a:xfrm>
            <a:off x="228600" y="304920"/>
            <a:ext cx="2133720" cy="1328760"/>
            <a:chOff x="228600" y="304920"/>
            <a:chExt cx="2133720" cy="1328760"/>
          </a:xfrm>
        </p:grpSpPr>
        <p:pic>
          <p:nvPicPr>
            <p:cNvPr id="177" name="Picture 5" descr="Ы"/>
            <p:cNvPicPr/>
            <p:nvPr/>
          </p:nvPicPr>
          <p:blipFill>
            <a:blip r:embed="rId3">
              <a:lum bright="70000" contrast="-70000"/>
            </a:blip>
            <a:stretch/>
          </p:blipFill>
          <p:spPr>
            <a:xfrm>
              <a:off x="228600" y="304920"/>
              <a:ext cx="2133720" cy="13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WordArt 6"/>
            <p:cNvSpPr txBox="1"/>
            <p:nvPr/>
          </p:nvSpPr>
          <p:spPr>
            <a:xfrm>
              <a:off x="228600" y="380880"/>
              <a:ext cx="60948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66"/>
                    </a:solidFill>
                    <a:miter/>
                  </a:ln>
                  <a:solidFill>
                    <a:srgbClr val="0033cc"/>
                  </a:solidFill>
                  <a:latin typeface="Times New Roman"/>
                </a:rPr>
                <a:t>ГИА</a:t>
              </a:r>
              <a:endParaRPr b="0" lang="en-US" sz="18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0033cc"/>
                </a:solidFill>
                <a:latin typeface="Times New Roman"/>
                <a:ea typeface="Times New Roman"/>
              </a:endParaRPr>
            </a:p>
          </p:txBody>
        </p:sp>
      </p:grpSp>
      <p:sp>
        <p:nvSpPr>
          <p:cNvPr id="179" name="Text Box 7"/>
          <p:cNvSpPr/>
          <p:nvPr/>
        </p:nvSpPr>
        <p:spPr>
          <a:xfrm>
            <a:off x="358920" y="1143000"/>
            <a:ext cx="8305560" cy="48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   </a:t>
            </a:r>
            <a:r>
              <a:rPr b="0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Об освоении выпускником  федерального компонента государственного образовательного стандарта в предметной области 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Математика» </a:t>
            </a:r>
            <a:r>
              <a:rPr b="0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видетельствует преодоление им минимального порогового результата выполнения экзаменационной рабо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станавливается следующий минимальный критерий: 8 баллов, набранные в сумме за выполнение всех трех модулей, из них – не менее 3-х баллов по модулю «Алгебра», 2-х баллов по модулю «Геометрия» и 2-х баллов по модулю «Реальная математик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реодоление этого минимального результата дает выпускнику право на получение, в соответствии с учебным планом образовательного учреждения, </a:t>
            </a:r>
            <a:r>
              <a:rPr b="0" lang="ru-RU" sz="1800" spc="-1" strike="noStrike" u="sng">
                <a:solidFill>
                  <a:srgbClr val="000066"/>
                </a:solidFill>
                <a:uFillTx/>
                <a:latin typeface="Times New Roman"/>
                <a:ea typeface="Times New Roman"/>
              </a:rPr>
              <a:t>итоговой отметки по математике </a:t>
            </a:r>
            <a:r>
              <a:rPr b="0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(на основе годовой и экзаменационных отметок по пятибалльной шкале) </a:t>
            </a:r>
            <a:r>
              <a:rPr b="0" lang="ru-RU" sz="1800" spc="-1" strike="noStrike" u="sng">
                <a:solidFill>
                  <a:srgbClr val="000066"/>
                </a:solidFill>
                <a:uFillTx/>
                <a:latin typeface="Times New Roman"/>
                <a:ea typeface="Times New Roman"/>
              </a:rPr>
              <a:t>или по алгебре и геометрии </a:t>
            </a:r>
            <a:r>
              <a:rPr b="0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(на основе годовых отметок, а также, в случае получения положительных оценок, экзаменационных отметок по пятибалльной шкале по соответствующим разделам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4б + 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б</a:t>
            </a:r>
            <a:r>
              <a:rPr b="0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+ 3б =  8б         </a:t>
            </a:r>
            <a:r>
              <a:rPr b="0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Оценка «2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    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б </a:t>
            </a:r>
            <a:r>
              <a:rPr b="0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+ 3б + 3б = 8б      Оценка «2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     </a:t>
            </a:r>
            <a:r>
              <a:rPr b="0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5б + 2б + 1б = 8б      Оценка «2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Нижний колонтитул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8951D-CE02-42C0-9436-E33E82817CD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2" descr="image002"/>
          <p:cNvPicPr/>
          <p:nvPr/>
        </p:nvPicPr>
        <p:blipFill>
          <a:blip r:embed="rId1">
            <a:lum bright="36000"/>
          </a:blip>
          <a:stretch/>
        </p:blipFill>
        <p:spPr>
          <a:xfrm>
            <a:off x="304920" y="304920"/>
            <a:ext cx="990360" cy="585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3" descr="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84" name="Group 4"/>
          <p:cNvGrpSpPr/>
          <p:nvPr/>
        </p:nvGrpSpPr>
        <p:grpSpPr>
          <a:xfrm>
            <a:off x="228600" y="304920"/>
            <a:ext cx="2133720" cy="1328760"/>
            <a:chOff x="228600" y="304920"/>
            <a:chExt cx="2133720" cy="1328760"/>
          </a:xfrm>
        </p:grpSpPr>
        <p:pic>
          <p:nvPicPr>
            <p:cNvPr id="185" name="Picture 5" descr="Ы"/>
            <p:cNvPicPr/>
            <p:nvPr/>
          </p:nvPicPr>
          <p:blipFill>
            <a:blip r:embed="rId3">
              <a:lum bright="70000" contrast="-70000"/>
            </a:blip>
            <a:stretch/>
          </p:blipFill>
          <p:spPr>
            <a:xfrm>
              <a:off x="228600" y="304920"/>
              <a:ext cx="2133720" cy="13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WordArt 6"/>
            <p:cNvSpPr txBox="1"/>
            <p:nvPr/>
          </p:nvSpPr>
          <p:spPr>
            <a:xfrm>
              <a:off x="228600" y="380880"/>
              <a:ext cx="60948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66"/>
                    </a:solidFill>
                    <a:miter/>
                  </a:ln>
                  <a:solidFill>
                    <a:srgbClr val="0033cc"/>
                  </a:solidFill>
                  <a:latin typeface="Times New Roman"/>
                </a:rPr>
                <a:t>ГИА</a:t>
              </a:r>
              <a:endParaRPr b="0" lang="en-US" sz="18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0033cc"/>
                </a:solidFill>
                <a:latin typeface="Times New Roman"/>
                <a:ea typeface="Times New Roman"/>
              </a:endParaRPr>
            </a:p>
          </p:txBody>
        </p:sp>
      </p:grpSp>
      <p:sp>
        <p:nvSpPr>
          <p:cNvPr id="187" name="Text Box 7"/>
          <p:cNvSpPr/>
          <p:nvPr/>
        </p:nvSpPr>
        <p:spPr>
          <a:xfrm>
            <a:off x="396720" y="1447920"/>
            <a:ext cx="8305920" cy="56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 2013 году апробация государственной (итоговой) аттестации выпускников 9 классов в новой форме проводится на основании Закона РФ «Об образовании» от 10.07.1992 г. № 3266-1 (с изменениями и дополнениями от 18.07.2011 г.) и в соответствии с Положением о государственной (итоговой) аттестации выпускников IX, XI (XII) классов общеобразовательных учреждений Российской Федерации, утвержденным приказом Министерства образования РФ от 03.12.99 №1075,                         (в ред. приказов Министерства образования РФ от 16.03.2001 №1022, от 25.06.2002 №2398, от 21.01.2003 №135, от 08.12.2004 №132, от 28.11.2008 №36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Нижний колонтитул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AA2E7-1FE4-44FD-9657-ADA86971CBE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2" descr="2"/>
          <p:cNvPicPr/>
          <p:nvPr/>
        </p:nvPicPr>
        <p:blipFill>
          <a:blip r:embed="rId1"/>
          <a:stretch/>
        </p:blipFill>
        <p:spPr>
          <a:xfrm>
            <a:off x="-4680" y="-936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91" name="Group 4"/>
          <p:cNvGrpSpPr/>
          <p:nvPr/>
        </p:nvGrpSpPr>
        <p:grpSpPr>
          <a:xfrm>
            <a:off x="228600" y="304920"/>
            <a:ext cx="2133720" cy="1328760"/>
            <a:chOff x="228600" y="304920"/>
            <a:chExt cx="2133720" cy="1328760"/>
          </a:xfrm>
        </p:grpSpPr>
        <p:pic>
          <p:nvPicPr>
            <p:cNvPr id="192" name="Picture 5" descr="Ы"/>
            <p:cNvPicPr/>
            <p:nvPr/>
          </p:nvPicPr>
          <p:blipFill>
            <a:blip r:embed="rId2"/>
            <a:stretch/>
          </p:blipFill>
          <p:spPr>
            <a:xfrm>
              <a:off x="228600" y="304920"/>
              <a:ext cx="2133720" cy="13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WordArt 6"/>
            <p:cNvSpPr txBox="1"/>
            <p:nvPr/>
          </p:nvSpPr>
          <p:spPr>
            <a:xfrm>
              <a:off x="228600" y="380880"/>
              <a:ext cx="60948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66"/>
                    </a:solidFill>
                    <a:miter/>
                  </a:ln>
                  <a:solidFill>
                    <a:srgbClr val="0033cc"/>
                  </a:solidFill>
                  <a:latin typeface="Times New Roman"/>
                </a:rPr>
                <a:t>ГИА</a:t>
              </a:r>
              <a:endParaRPr b="0" lang="en-US" sz="18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0033cc"/>
                </a:solidFill>
                <a:latin typeface="Times New Roman"/>
                <a:ea typeface="Times New Roman"/>
              </a:endParaRPr>
            </a:p>
          </p:txBody>
        </p:sp>
      </p:grpSp>
      <p:sp>
        <p:nvSpPr>
          <p:cNvPr id="194" name="Text Box 9"/>
          <p:cNvSpPr/>
          <p:nvPr/>
        </p:nvSpPr>
        <p:spPr>
          <a:xfrm>
            <a:off x="0" y="15652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Прямоугольник 1"/>
          <p:cNvSpPr/>
          <p:nvPr/>
        </p:nvSpPr>
        <p:spPr>
          <a:xfrm>
            <a:off x="685800" y="1662120"/>
            <a:ext cx="8077320" cy="39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Спасибо за вним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Контактные телефон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292-49-06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факс 292-24-3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-mail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: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Milyausha.Salahova@tatar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Нижний колонтитул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BDEDE-5845-44D9-89FD-78D9BA0DEDF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image002"/>
          <p:cNvPicPr/>
          <p:nvPr/>
        </p:nvPicPr>
        <p:blipFill>
          <a:blip r:embed="rId1">
            <a:lum bright="36000"/>
          </a:blip>
          <a:stretch/>
        </p:blipFill>
        <p:spPr>
          <a:xfrm>
            <a:off x="304920" y="304920"/>
            <a:ext cx="990360" cy="5857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0" name="Group 4"/>
          <p:cNvGrpSpPr/>
          <p:nvPr/>
        </p:nvGrpSpPr>
        <p:grpSpPr>
          <a:xfrm>
            <a:off x="228600" y="304920"/>
            <a:ext cx="2133720" cy="1328760"/>
            <a:chOff x="228600" y="304920"/>
            <a:chExt cx="2133720" cy="1328760"/>
          </a:xfrm>
        </p:grpSpPr>
        <p:pic>
          <p:nvPicPr>
            <p:cNvPr id="61" name="Picture 5" descr="Ы"/>
            <p:cNvPicPr/>
            <p:nvPr/>
          </p:nvPicPr>
          <p:blipFill>
            <a:blip r:embed="rId3">
              <a:lum bright="70000" contrast="-70000"/>
            </a:blip>
            <a:stretch/>
          </p:blipFill>
          <p:spPr>
            <a:xfrm>
              <a:off x="228600" y="304920"/>
              <a:ext cx="2133720" cy="13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WordArt 6"/>
            <p:cNvSpPr txBox="1"/>
            <p:nvPr/>
          </p:nvSpPr>
          <p:spPr>
            <a:xfrm>
              <a:off x="228600" y="380880"/>
              <a:ext cx="60948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66"/>
                    </a:solidFill>
                    <a:miter/>
                  </a:ln>
                  <a:solidFill>
                    <a:srgbClr val="0033cc"/>
                  </a:solidFill>
                  <a:latin typeface="Times New Roman"/>
                </a:rPr>
                <a:t>ГИА</a:t>
              </a:r>
              <a:endParaRPr b="0" lang="en-US" sz="18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0033cc"/>
                </a:solidFill>
                <a:latin typeface="Times New Roman"/>
                <a:ea typeface="Times New Roman"/>
              </a:endParaRPr>
            </a:p>
          </p:txBody>
        </p:sp>
      </p:grpSp>
      <p:sp>
        <p:nvSpPr>
          <p:cNvPr id="63" name="Text Box 7"/>
          <p:cNvSpPr/>
          <p:nvPr/>
        </p:nvSpPr>
        <p:spPr>
          <a:xfrm>
            <a:off x="301680" y="322200"/>
            <a:ext cx="8610480" cy="60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комендации по совершенствованию преподавания математики в основной школе с целью  качественной подготовки к ГИА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16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. Систематически включать в тематические контрольные и самостоятельные работы задания в тестовой форме, соблюдая временной режи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     </a:t>
            </a:r>
            <a:r>
              <a:rPr b="0" lang="ru-RU" sz="16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2. Обратить внимание на повышение уровня вычислительных навыков учащихся (эффективно организовать устную работу на уроках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     </a:t>
            </a:r>
            <a:r>
              <a:rPr b="0" lang="ru-RU" sz="16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3. Усилить практическую направленность обучения, включая соответствующие задания, графики реальных зависимостей, текстовые задачи с построением математических моделей реальных ситуаций; выделить «проблемные» темы в каждом конкретном классе и работать над ликвидацией пробелов в знаниях и умениях обучающихся по этим тема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     </a:t>
            </a:r>
            <a:r>
              <a:rPr b="0" lang="ru-RU" sz="16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4. В ходе обучения геометрии обратить самое серьезное внимание на обеспечение усвоения всеми учащимися минимума содержания на базовом уровне. Именно это является непременным условием для усвоения геометрии на любом уровн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     </a:t>
            </a:r>
            <a:r>
              <a:rPr b="0" lang="ru-RU" sz="16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5. Уделять большее внимание решению задач с вариативными формулировками, что даст возможность учащимся отделять существенные признаки от несущественных, которые мешают при поиске решения задачи; работе с условием задачи; выявлению предмета и элементов задачи, соотношений между элементами; рефлексии после получения отве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     </a:t>
            </a:r>
            <a:r>
              <a:rPr b="0" lang="ru-RU" sz="16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6. Осуществлять подготовку к экзамену не в ходе массового «нарешивания» вариантов – аналогов экзаменационных работ, а в ходе всего учебного процесса, формируя при этом у обучающихся общие учебные действия, способствующие более эффективному усвоению изучаемых вопрос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     </a:t>
            </a:r>
            <a:r>
              <a:rPr b="0" lang="ru-RU" sz="16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7. Определить наиболее эффективной стратегией работы каждого педагога регулярное прохождение курса математики, совмещенное с периодической диагностикой проблемных зон учащихся и устранением выявленных недостатков по индивидуальной траектор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Нижний колонтитул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8A3EF-A261-45DD-8F36-4C4F9F81D63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image002"/>
          <p:cNvPicPr/>
          <p:nvPr/>
        </p:nvPicPr>
        <p:blipFill>
          <a:blip r:embed="rId1">
            <a:lum bright="36000"/>
          </a:blip>
          <a:stretch/>
        </p:blipFill>
        <p:spPr>
          <a:xfrm>
            <a:off x="304920" y="304920"/>
            <a:ext cx="990360" cy="585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8" name="Group 4"/>
          <p:cNvGrpSpPr/>
          <p:nvPr/>
        </p:nvGrpSpPr>
        <p:grpSpPr>
          <a:xfrm>
            <a:off x="228600" y="304920"/>
            <a:ext cx="2133720" cy="1328760"/>
            <a:chOff x="228600" y="304920"/>
            <a:chExt cx="2133720" cy="1328760"/>
          </a:xfrm>
        </p:grpSpPr>
        <p:pic>
          <p:nvPicPr>
            <p:cNvPr id="69" name="Picture 5" descr="Ы"/>
            <p:cNvPicPr/>
            <p:nvPr/>
          </p:nvPicPr>
          <p:blipFill>
            <a:blip r:embed="rId3">
              <a:lum bright="70000" contrast="-70000"/>
            </a:blip>
            <a:stretch/>
          </p:blipFill>
          <p:spPr>
            <a:xfrm>
              <a:off x="228600" y="304920"/>
              <a:ext cx="2133720" cy="13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WordArt 6"/>
            <p:cNvSpPr txBox="1"/>
            <p:nvPr/>
          </p:nvSpPr>
          <p:spPr>
            <a:xfrm>
              <a:off x="228600" y="380880"/>
              <a:ext cx="60948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66"/>
                    </a:solidFill>
                    <a:miter/>
                  </a:ln>
                  <a:solidFill>
                    <a:srgbClr val="0033cc"/>
                  </a:solidFill>
                  <a:latin typeface="Times New Roman"/>
                </a:rPr>
                <a:t>ГИА</a:t>
              </a:r>
              <a:endParaRPr b="0" lang="en-US" sz="18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0033cc"/>
                </a:solidFill>
                <a:latin typeface="Times New Roman"/>
                <a:ea typeface="Times New Roman"/>
              </a:endParaRPr>
            </a:p>
          </p:txBody>
        </p:sp>
      </p:grpSp>
      <p:sp>
        <p:nvSpPr>
          <p:cNvPr id="71" name="Text Box 7"/>
          <p:cNvSpPr/>
          <p:nvPr/>
        </p:nvSpPr>
        <p:spPr>
          <a:xfrm>
            <a:off x="380880" y="482760"/>
            <a:ext cx="8229600" cy="57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комендации по подготовке выпускников 9 классов                  к ГИА-9  по русскому язы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1</a:t>
            </a:r>
            <a:r>
              <a:rPr b="0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.  </a:t>
            </a:r>
            <a:r>
              <a:rPr b="0" lang="ru-RU" sz="1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Особое внимание следует обратить на усвоение теории в области синтаксиса, связанной с понятием предложения как основной синтаксической единицы, умением анализировать структуру предлож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2.  Очень остро стоит проблема культуры речи. Большое количество речевых и грамматических ошибок в письменной и устной речи учащихся, неумение выявить чужую ошибку в речи является свидетельством недостаточного внимания к этой проблеме со стороны учителей-предметников. Не только поверхностное знакомство с понятием нормированности на том или ином языковом уровне (фонетическом, лексическом, морфологическом и др.), но и регулярные практические задания на уроках, поможет повысить общий уровень речевой культуры выпускни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    </a:t>
            </a:r>
            <a:r>
              <a:rPr b="0" lang="ru-RU" sz="1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3. При выполнении задания типа С аргументация собственной точки зрения очень часто сводится к воссозданию жизненной ситуации, а не к обращению к литературному источнику. Вероятно, задача учителя сводится к тому, чтобы мотивировать учащихся к привлечению литературных источников, определить круг тем и проблем, которые поднимает тот или иной автор в своих произведения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Нижний колонтитул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CA37C-09CF-4463-8398-90834A7F35F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" descr="image002"/>
          <p:cNvPicPr/>
          <p:nvPr/>
        </p:nvPicPr>
        <p:blipFill>
          <a:blip r:embed="rId1">
            <a:lum bright="36000"/>
          </a:blip>
          <a:stretch/>
        </p:blipFill>
        <p:spPr>
          <a:xfrm>
            <a:off x="304920" y="304920"/>
            <a:ext cx="990360" cy="585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6" name="Group 4"/>
          <p:cNvGrpSpPr/>
          <p:nvPr/>
        </p:nvGrpSpPr>
        <p:grpSpPr>
          <a:xfrm>
            <a:off x="228600" y="304920"/>
            <a:ext cx="2133720" cy="1328760"/>
            <a:chOff x="228600" y="304920"/>
            <a:chExt cx="2133720" cy="1328760"/>
          </a:xfrm>
        </p:grpSpPr>
        <p:pic>
          <p:nvPicPr>
            <p:cNvPr id="77" name="Picture 5" descr="Ы"/>
            <p:cNvPicPr/>
            <p:nvPr/>
          </p:nvPicPr>
          <p:blipFill>
            <a:blip r:embed="rId3">
              <a:lum bright="70000" contrast="-70000"/>
            </a:blip>
            <a:stretch/>
          </p:blipFill>
          <p:spPr>
            <a:xfrm>
              <a:off x="228600" y="304920"/>
              <a:ext cx="2133720" cy="13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WordArt 6"/>
            <p:cNvSpPr txBox="1"/>
            <p:nvPr/>
          </p:nvSpPr>
          <p:spPr>
            <a:xfrm>
              <a:off x="228600" y="380880"/>
              <a:ext cx="60948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66"/>
                    </a:solidFill>
                    <a:miter/>
                  </a:ln>
                  <a:solidFill>
                    <a:srgbClr val="0033cc"/>
                  </a:solidFill>
                  <a:latin typeface="Times New Roman"/>
                </a:rPr>
                <a:t>ГИА</a:t>
              </a:r>
              <a:endParaRPr b="0" lang="en-US" sz="18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0033cc"/>
                </a:solidFill>
                <a:latin typeface="Times New Roman"/>
                <a:ea typeface="Times New Roman"/>
              </a:endParaRPr>
            </a:p>
          </p:txBody>
        </p:sp>
      </p:grpSp>
      <p:sp>
        <p:nvSpPr>
          <p:cNvPr id="79" name="Text Box 7"/>
          <p:cNvSpPr/>
          <p:nvPr/>
        </p:nvSpPr>
        <p:spPr>
          <a:xfrm>
            <a:off x="266760" y="282600"/>
            <a:ext cx="8610480" cy="60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ипичные ошибки  ГИА - 9 по предметам по выбор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Иностранные языки</a:t>
            </a:r>
            <a:r>
              <a:rPr b="0" lang="ru-RU" sz="19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: неумение вести диалог и реагировать на реплики собеседника – преподавателя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Литература</a:t>
            </a:r>
            <a:r>
              <a:rPr b="0" lang="ru-RU" sz="19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: неумение самостоятельно выбирать позицию сопоставления,  давать развёрнутый ответ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География</a:t>
            </a:r>
            <a:r>
              <a:rPr b="0" lang="ru-RU" sz="19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: неумение работать с картой местности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Физика</a:t>
            </a:r>
            <a:r>
              <a:rPr b="0" lang="ru-RU" sz="19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: недостаточные знания  физических законов, неумение объяснять физические явления и закономерности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Химия</a:t>
            </a:r>
            <a:r>
              <a:rPr b="0" lang="ru-RU" sz="19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: неумение разобраться в качественных реакциях на некоторые ионы и простые вещества, что влечёт за собой неумение описывать химический эксперимент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История</a:t>
            </a:r>
            <a:r>
              <a:rPr b="0" lang="ru-RU" sz="19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: недостаточное усвоение фактического материала, терминов, дат. Смешение понятий, явлений, процессов. Слабая работа с источником (текстом)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Обществознание</a:t>
            </a:r>
            <a:r>
              <a:rPr b="0" lang="ru-RU" sz="19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: неумение анализировать теоретическое осмысление текста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Биология</a:t>
            </a:r>
            <a:r>
              <a:rPr b="0" lang="ru-RU" sz="19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: неумение применять знание на практике в новой ситуации, неумение обобщать. Недостаточно навыков использования табличного материала и делать по нему выводы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Информатика и ИКТ: </a:t>
            </a:r>
            <a:r>
              <a:rPr b="0" lang="ru-RU" sz="19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 недостаточно навыков при выполнении алгоритмических задач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Нижний колонтитул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0D724-6EE2-4F2A-8C74-D4994414F64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" descr="image002"/>
          <p:cNvPicPr/>
          <p:nvPr/>
        </p:nvPicPr>
        <p:blipFill>
          <a:blip r:embed="rId1">
            <a:lum bright="36000"/>
          </a:blip>
          <a:stretch/>
        </p:blipFill>
        <p:spPr>
          <a:xfrm>
            <a:off x="304920" y="304920"/>
            <a:ext cx="990360" cy="5857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2"/>
          <p:cNvPicPr/>
          <p:nvPr/>
        </p:nvPicPr>
        <p:blipFill>
          <a:blip r:embed="rId2"/>
          <a:stretch/>
        </p:blipFill>
        <p:spPr>
          <a:xfrm>
            <a:off x="7920" y="0"/>
            <a:ext cx="9144000" cy="6892920"/>
          </a:xfrm>
          <a:prstGeom prst="rect">
            <a:avLst/>
          </a:prstGeom>
          <a:ln w="0">
            <a:noFill/>
          </a:ln>
        </p:spPr>
      </p:pic>
      <p:grpSp>
        <p:nvGrpSpPr>
          <p:cNvPr id="84" name="Group 4"/>
          <p:cNvGrpSpPr/>
          <p:nvPr/>
        </p:nvGrpSpPr>
        <p:grpSpPr>
          <a:xfrm>
            <a:off x="228600" y="304920"/>
            <a:ext cx="2133720" cy="1328760"/>
            <a:chOff x="228600" y="304920"/>
            <a:chExt cx="2133720" cy="1328760"/>
          </a:xfrm>
        </p:grpSpPr>
        <p:pic>
          <p:nvPicPr>
            <p:cNvPr id="85" name="Picture 5" descr="Ы"/>
            <p:cNvPicPr/>
            <p:nvPr/>
          </p:nvPicPr>
          <p:blipFill>
            <a:blip r:embed="rId3">
              <a:lum bright="70000" contrast="-70000"/>
            </a:blip>
            <a:stretch/>
          </p:blipFill>
          <p:spPr>
            <a:xfrm>
              <a:off x="228600" y="304920"/>
              <a:ext cx="2133720" cy="13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WordArt 6"/>
            <p:cNvSpPr txBox="1"/>
            <p:nvPr/>
          </p:nvSpPr>
          <p:spPr>
            <a:xfrm>
              <a:off x="228600" y="380880"/>
              <a:ext cx="60948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66"/>
                    </a:solidFill>
                    <a:miter/>
                  </a:ln>
                  <a:solidFill>
                    <a:srgbClr val="0033cc"/>
                  </a:solidFill>
                  <a:latin typeface="Times New Roman"/>
                </a:rPr>
                <a:t>ГИА</a:t>
              </a:r>
              <a:endParaRPr b="0" lang="en-US" sz="18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0033cc"/>
                </a:solidFill>
                <a:latin typeface="Times New Roman"/>
                <a:ea typeface="Times New Roman"/>
              </a:endParaRPr>
            </a:p>
          </p:txBody>
        </p:sp>
      </p:grpSp>
      <p:sp>
        <p:nvSpPr>
          <p:cNvPr id="87" name="Text Box 7"/>
          <p:cNvSpPr/>
          <p:nvPr/>
        </p:nvSpPr>
        <p:spPr>
          <a:xfrm>
            <a:off x="380880" y="1828800"/>
            <a:ext cx="81536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В соответствии с письмом Министерства образования и науки Российской Федерации от 18.10.2012г. № 08-488 в 2013 году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пробац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проведения государственной (итоговой) аттестации обучающихся, освоивших образовательные программы основного общего образования, с использованием механизмов независимой оценки знаний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должается по 14 общеобразовательным предметам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русскому языку, математике, биологии, физике, химии, географии, истории, обществознанию, иностранному языку (английский, французский, немецкий, испанский), информатике и ИКТ, литератур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 2014 года </a:t>
            </a:r>
            <a:r>
              <a:rPr b="0" lang="ru-RU" sz="20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государственная (итоговая) аттестация выпускников                      9 классов в новой форме проводится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штатном режим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1"/>
          <p:cNvSpPr/>
          <p:nvPr/>
        </p:nvSpPr>
        <p:spPr>
          <a:xfrm>
            <a:off x="1981080" y="34308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собенности проведения в 2013 году государственной (итоговой) аттестации выпускников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X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классов в новой фор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Нижний колонтитул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C3BB8-BAD7-48C3-916E-8E69C0ACFD1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image002"/>
          <p:cNvPicPr/>
          <p:nvPr/>
        </p:nvPicPr>
        <p:blipFill>
          <a:blip r:embed="rId1">
            <a:lum bright="36000"/>
          </a:blip>
          <a:stretch/>
        </p:blipFill>
        <p:spPr>
          <a:xfrm>
            <a:off x="304920" y="304920"/>
            <a:ext cx="990360" cy="5857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3" name="Group 4"/>
          <p:cNvGrpSpPr/>
          <p:nvPr/>
        </p:nvGrpSpPr>
        <p:grpSpPr>
          <a:xfrm>
            <a:off x="228600" y="304920"/>
            <a:ext cx="2133720" cy="1328760"/>
            <a:chOff x="228600" y="304920"/>
            <a:chExt cx="2133720" cy="1328760"/>
          </a:xfrm>
        </p:grpSpPr>
        <p:pic>
          <p:nvPicPr>
            <p:cNvPr id="94" name="Picture 5" descr="Ы"/>
            <p:cNvPicPr/>
            <p:nvPr/>
          </p:nvPicPr>
          <p:blipFill>
            <a:blip r:embed="rId3">
              <a:lum bright="70000" contrast="-70000"/>
            </a:blip>
            <a:stretch/>
          </p:blipFill>
          <p:spPr>
            <a:xfrm>
              <a:off x="228600" y="304920"/>
              <a:ext cx="2133720" cy="13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WordArt 6"/>
            <p:cNvSpPr txBox="1"/>
            <p:nvPr/>
          </p:nvSpPr>
          <p:spPr>
            <a:xfrm>
              <a:off x="228600" y="380880"/>
              <a:ext cx="60948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66"/>
                    </a:solidFill>
                    <a:miter/>
                  </a:ln>
                  <a:solidFill>
                    <a:srgbClr val="0033cc"/>
                  </a:solidFill>
                  <a:latin typeface="Times New Roman"/>
                </a:rPr>
                <a:t>ГИА</a:t>
              </a:r>
              <a:endParaRPr b="0" lang="en-US" sz="18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0033cc"/>
                </a:solidFill>
                <a:latin typeface="Times New Roman"/>
                <a:ea typeface="Times New Roman"/>
              </a:endParaRPr>
            </a:p>
          </p:txBody>
        </p:sp>
      </p:grpSp>
      <p:sp>
        <p:nvSpPr>
          <p:cNvPr id="96" name="Text Box 7"/>
          <p:cNvSpPr/>
          <p:nvPr/>
        </p:nvSpPr>
        <p:spPr>
          <a:xfrm>
            <a:off x="304920" y="669960"/>
            <a:ext cx="8610480" cy="43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равовые основы проведения в 2013 году государственной (итоговой) аттестации выпускников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X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клас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общеобразовательных учрежден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 использованием механизмов независимой оценки зна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  </a:t>
            </a:r>
            <a:r>
              <a:rPr b="0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- Закон Российской Федерации «Об образовании» от 10.07.1992 № 3266-1(с изменениями и дополнениями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  </a:t>
            </a:r>
            <a:r>
              <a:rPr b="0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- Положение о государственной (итоговой) аттестации выпускников IX, XI (XII) классов общеобразовательных учреждений Российской Федерации, утвержденный приказом Министерства образования РФ от 03.12.99 №1075, (в ред. приказов Министерства образования РФ от 16.03.2001 №1022, от 25.06.2002 №2398, от 21.01.2003 №135, от 08.12.2004 №132, от 28.11.2008 №362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  </a:t>
            </a:r>
            <a:r>
              <a:rPr b="0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- Письмо Министерства образования и науки Российской Федерации от 18.10.2012г. № 08-48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Нижний колонтитул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6946B-9352-4326-980F-A383766AD3E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" descr="image002"/>
          <p:cNvPicPr/>
          <p:nvPr/>
        </p:nvPicPr>
        <p:blipFill>
          <a:blip r:embed="rId1">
            <a:lum bright="36000"/>
          </a:blip>
          <a:stretch/>
        </p:blipFill>
        <p:spPr>
          <a:xfrm>
            <a:off x="304920" y="304920"/>
            <a:ext cx="990360" cy="5857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" descr="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1" name="Group 4"/>
          <p:cNvGrpSpPr/>
          <p:nvPr/>
        </p:nvGrpSpPr>
        <p:grpSpPr>
          <a:xfrm>
            <a:off x="228600" y="304920"/>
            <a:ext cx="2133720" cy="1328760"/>
            <a:chOff x="228600" y="304920"/>
            <a:chExt cx="2133720" cy="1328760"/>
          </a:xfrm>
        </p:grpSpPr>
        <p:pic>
          <p:nvPicPr>
            <p:cNvPr id="102" name="Picture 5" descr="Ы"/>
            <p:cNvPicPr/>
            <p:nvPr/>
          </p:nvPicPr>
          <p:blipFill>
            <a:blip r:embed="rId3">
              <a:lum bright="70000" contrast="-70000"/>
            </a:blip>
            <a:stretch/>
          </p:blipFill>
          <p:spPr>
            <a:xfrm>
              <a:off x="228600" y="304920"/>
              <a:ext cx="2133720" cy="13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WordArt 6"/>
            <p:cNvSpPr txBox="1"/>
            <p:nvPr/>
          </p:nvSpPr>
          <p:spPr>
            <a:xfrm>
              <a:off x="228600" y="380880"/>
              <a:ext cx="60948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66"/>
                    </a:solidFill>
                    <a:miter/>
                  </a:ln>
                  <a:solidFill>
                    <a:srgbClr val="0033cc"/>
                  </a:solidFill>
                  <a:latin typeface="Times New Roman"/>
                </a:rPr>
                <a:t>ГИА</a:t>
              </a:r>
              <a:endParaRPr b="0" lang="en-US" sz="18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0033cc"/>
                </a:solidFill>
                <a:latin typeface="Times New Roman"/>
                <a:ea typeface="Times New Roman"/>
              </a:endParaRPr>
            </a:p>
          </p:txBody>
        </p:sp>
      </p:grpSp>
      <p:sp>
        <p:nvSpPr>
          <p:cNvPr id="104" name="Text Box 7"/>
          <p:cNvSpPr/>
          <p:nvPr/>
        </p:nvSpPr>
        <p:spPr>
          <a:xfrm>
            <a:off x="380880" y="380880"/>
            <a:ext cx="8305920" cy="57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равовые основы проведения в 2013 году  государственной (итоговой) аттестации выпускников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X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клас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общеобразовательных учрежден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 использованием механизмов независимой оценки зна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На уровне региона (проекты)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-    распоряжение Кабинета министров Республики Татарстан (январь 2013г.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орядок организации и проведения в 2013 году государственной (итоговой) аттестации обучающихся, освоивших основные общеобразовательные программы основного общего образования, с использованием механизмов независимой оценки знаний путем создания государственной экзаменационной комиссии Республики Татарстан, утвержденный приказом Министерства образования и науки республики Татарстан (январь 2013г.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Организационно-территориальная схема проведения государственной (итоговой) аттестации обучающихся, освоивших основные образовательные программы основного общего образования с использованием независимых механизмов оценки знаний путем создания государственной экзаменационной комиссии Республики Татарстан  в 2013 году, утвержденная приказом Министерства образования и науки республики Татарстан (февраль 2013г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Нижний колонтитул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4F200-F5A4-46E1-8ED2-7F944732E70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2" descr="image002"/>
          <p:cNvPicPr/>
          <p:nvPr/>
        </p:nvPicPr>
        <p:blipFill>
          <a:blip r:embed="rId1">
            <a:lum bright="36000"/>
          </a:blip>
          <a:stretch/>
        </p:blipFill>
        <p:spPr>
          <a:xfrm>
            <a:off x="304920" y="304920"/>
            <a:ext cx="990360" cy="5857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" descr="2"/>
          <p:cNvPicPr/>
          <p:nvPr/>
        </p:nvPicPr>
        <p:blipFill>
          <a:blip r:embed="rId2"/>
          <a:stretch/>
        </p:blipFill>
        <p:spPr>
          <a:xfrm>
            <a:off x="0" y="-144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9" name="Group 4"/>
          <p:cNvGrpSpPr/>
          <p:nvPr/>
        </p:nvGrpSpPr>
        <p:grpSpPr>
          <a:xfrm>
            <a:off x="228600" y="304920"/>
            <a:ext cx="2133720" cy="1328760"/>
            <a:chOff x="228600" y="304920"/>
            <a:chExt cx="2133720" cy="1328760"/>
          </a:xfrm>
        </p:grpSpPr>
        <p:pic>
          <p:nvPicPr>
            <p:cNvPr id="110" name="Picture 5" descr="Ы"/>
            <p:cNvPicPr/>
            <p:nvPr/>
          </p:nvPicPr>
          <p:blipFill>
            <a:blip r:embed="rId3">
              <a:lum bright="70000" contrast="-70000"/>
            </a:blip>
            <a:stretch/>
          </p:blipFill>
          <p:spPr>
            <a:xfrm>
              <a:off x="228600" y="304920"/>
              <a:ext cx="2133720" cy="13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WordArt 6"/>
            <p:cNvSpPr txBox="1"/>
            <p:nvPr/>
          </p:nvSpPr>
          <p:spPr>
            <a:xfrm>
              <a:off x="228600" y="380880"/>
              <a:ext cx="60948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66"/>
                    </a:solidFill>
                    <a:miter/>
                  </a:ln>
                  <a:solidFill>
                    <a:srgbClr val="0033cc"/>
                  </a:solidFill>
                  <a:latin typeface="Times New Roman"/>
                </a:rPr>
                <a:t>ГИА</a:t>
              </a:r>
              <a:endParaRPr b="0" lang="en-US" sz="18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0033cc"/>
                </a:solidFill>
                <a:latin typeface="Times New Roman"/>
                <a:ea typeface="Times New Roman"/>
              </a:endParaRPr>
            </a:p>
          </p:txBody>
        </p:sp>
      </p:grpSp>
      <p:sp>
        <p:nvSpPr>
          <p:cNvPr id="112" name="Text Box 7"/>
          <p:cNvSpPr/>
          <p:nvPr/>
        </p:nvSpPr>
        <p:spPr>
          <a:xfrm>
            <a:off x="504720" y="762120"/>
            <a:ext cx="8077320" cy="49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собенности проведения в 2013 году государственной (итоговой) аттестации выпускников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X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классов в новой форм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Выпускники IХ классов общеобразовательных учреждений Республики Татарстан в 2012-2013 учебном году в рамках государственной (итоговой) аттестации сдают следующие выпускные экзамены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бязательные экзамены по русскому языку и математик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ва экзамена по выбору выпускника </a:t>
            </a:r>
            <a:r>
              <a:rPr b="0" lang="ru-RU" sz="1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из числа предметов, изучавшихся в IХ класс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а также 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гиональный экзамен по предмету «Татарский язык» </a:t>
            </a:r>
            <a:r>
              <a:rPr b="0" lang="ru-RU" sz="1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для выпускников, изучавших татарский язык как родной или государственны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      </a:t>
            </a:r>
            <a:r>
              <a:rPr b="0" lang="ru-RU" sz="1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Экзамен по предмету «Татарский язык» проводится  в новой и традиционной формах. </a:t>
            </a:r>
            <a:r>
              <a:rPr b="0" lang="tt-RU" sz="1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Форма экзамена выбирается выпускником самостоятельн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Нижний колонтитул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F943C-1CE9-4A30-A59F-50BD99F0C9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" descr="image002"/>
          <p:cNvPicPr/>
          <p:nvPr/>
        </p:nvPicPr>
        <p:blipFill>
          <a:blip r:embed="rId1">
            <a:lum bright="36000"/>
          </a:blip>
          <a:stretch/>
        </p:blipFill>
        <p:spPr>
          <a:xfrm>
            <a:off x="304920" y="304920"/>
            <a:ext cx="990360" cy="5857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" descr="2"/>
          <p:cNvPicPr/>
          <p:nvPr/>
        </p:nvPicPr>
        <p:blipFill>
          <a:blip r:embed="rId2"/>
          <a:stretch/>
        </p:blipFill>
        <p:spPr>
          <a:xfrm>
            <a:off x="0" y="0"/>
            <a:ext cx="918216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17" name="Group 4"/>
          <p:cNvGrpSpPr/>
          <p:nvPr/>
        </p:nvGrpSpPr>
        <p:grpSpPr>
          <a:xfrm>
            <a:off x="228600" y="304920"/>
            <a:ext cx="2133720" cy="1328760"/>
            <a:chOff x="228600" y="304920"/>
            <a:chExt cx="2133720" cy="1328760"/>
          </a:xfrm>
        </p:grpSpPr>
        <p:pic>
          <p:nvPicPr>
            <p:cNvPr id="118" name="Picture 5" descr="Ы"/>
            <p:cNvPicPr/>
            <p:nvPr/>
          </p:nvPicPr>
          <p:blipFill>
            <a:blip r:embed="rId3">
              <a:lum bright="70000" contrast="-70000"/>
            </a:blip>
            <a:stretch/>
          </p:blipFill>
          <p:spPr>
            <a:xfrm>
              <a:off x="228600" y="304920"/>
              <a:ext cx="2133720" cy="13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WordArt 6"/>
            <p:cNvSpPr txBox="1"/>
            <p:nvPr/>
          </p:nvSpPr>
          <p:spPr>
            <a:xfrm>
              <a:off x="228600" y="380880"/>
              <a:ext cx="60948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66"/>
                    </a:solidFill>
                    <a:miter/>
                  </a:ln>
                  <a:solidFill>
                    <a:srgbClr val="0033cc"/>
                  </a:solidFill>
                  <a:latin typeface="Times New Roman"/>
                </a:rPr>
                <a:t>ГИА</a:t>
              </a:r>
              <a:endParaRPr b="0" lang="en-US" sz="18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0033cc"/>
                </a:solidFill>
                <a:latin typeface="Times New Roman"/>
                <a:ea typeface="Times New Roman"/>
              </a:endParaRPr>
            </a:p>
          </p:txBody>
        </p:sp>
      </p:grpSp>
      <p:sp>
        <p:nvSpPr>
          <p:cNvPr id="120" name="Text Box 7"/>
          <p:cNvSpPr/>
          <p:nvPr/>
        </p:nvSpPr>
        <p:spPr>
          <a:xfrm>
            <a:off x="285840" y="996840"/>
            <a:ext cx="8610480" cy="48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собенности проведения в 2013 году государственной (итоговой) аттестации выпускников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X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классов в новой форм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1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Выпускники </a:t>
            </a:r>
            <a:r>
              <a:rPr b="0" lang="en-US" sz="1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IX</a:t>
            </a:r>
            <a:r>
              <a:rPr b="0" lang="ru-RU" sz="1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 класса общеобразовательного учреждения, желающие продолжить обучение в профильных классах </a:t>
            </a:r>
            <a:r>
              <a:rPr b="0" lang="en-US" sz="1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III</a:t>
            </a:r>
            <a:r>
              <a:rPr b="0" lang="ru-RU" sz="1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 ступени общего образования, сдают два экзамена по предметам, соответствующим данному профилю обуч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      </a:t>
            </a:r>
            <a:r>
              <a:rPr b="0" lang="ru-RU" sz="1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В соответствии с действующим законодательством </a:t>
            </a:r>
            <a:r>
              <a:rPr b="0" lang="ru-RU" sz="1800" spc="-1" strike="noStrike" u="sng">
                <a:solidFill>
                  <a:srgbClr val="262673"/>
                </a:solidFill>
                <a:uFillTx/>
                <a:latin typeface="Times New Roman"/>
                <a:ea typeface="Times New Roman"/>
              </a:rPr>
              <a:t>профильные предметы для формирования профильных классов определяются общеобразовательным учреждением самостоятель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      </a:t>
            </a:r>
            <a:r>
              <a:rPr b="0" lang="ru-RU" sz="1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Выпускники 9 классов, желающие продолжить обучение в учреждениях начального и среднего профессионального образования (если кроме обязательных предметов, не нужен какой либо другой предмет для поступления) </a:t>
            </a:r>
            <a:r>
              <a:rPr b="0" lang="ru-RU" sz="1800" spc="-1" strike="noStrike" u="sng">
                <a:solidFill>
                  <a:srgbClr val="262673"/>
                </a:solidFill>
                <a:uFillTx/>
                <a:latin typeface="Times New Roman"/>
                <a:ea typeface="Times New Roman"/>
              </a:rPr>
              <a:t>имеют право в качестве двух  предметов по выбору выбрать </a:t>
            </a:r>
            <a:r>
              <a:rPr b="0" lang="ru-RU" sz="1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предметы «Физическая культура», «Искусство», «ОБЖ», «Родная (татарская, чувашская, марийская, удмуртская) литература», изучавшиеся  в 9 класс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iliya</dc:creator>
  <dc:description/>
  <dc:language>en-US</dc:language>
  <cp:lastModifiedBy>Зиганшина</cp:lastModifiedBy>
  <cp:lastPrinted>2012-11-21T15:24:08Z</cp:lastPrinted>
  <dcterms:modified xsi:type="dcterms:W3CDTF">2012-11-22T09:38:05Z</dcterms:modified>
  <cp:revision>14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